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130-742B-45CD-A8C0-4E43CE32E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296E-A051-4766-808F-7013E89A2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708-4AFA-4142-9AA3-8451CDBF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7CE-F1C9-4C09-99D4-B6FBAF7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CBD-6B3F-4DC8-B543-38AEF32C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914-A5FA-4915-9E90-408F2ACF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4D5-4434-41BC-9F7A-7116768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52F-B409-499F-87BF-C26AE830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343-707D-4E61-AC10-BA34212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27B-1B94-44C2-83D4-23D4363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7B1-D0BC-4912-91BE-8CCB06BD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153-09A5-4C86-BE6F-3425798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D45-1DAC-4B31-88B8-0A4BBC8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7E2-1E93-4912-BEB9-DD05A39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5F4-6B25-4A35-B01F-7C74376B5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s for Good Visual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4"/>
          <p:cNvSpPr/>
          <p:nvPr/>
        </p:nvSpPr>
        <p:spPr>
          <a:xfrm>
            <a:off x="76212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20040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6705720" y="1600200"/>
            <a:ext cx="1981080" cy="198108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usburn\AppData\Local\Microsoft\Windows\Temporary Internet Files\Content.IE5\7JBLM7VS\MCj04242460000[1].wmf"/>
          <p:cNvPicPr/>
          <p:nvPr/>
        </p:nvPicPr>
        <p:blipFill>
          <a:blip r:embed="rId1"/>
          <a:stretch/>
        </p:blipFill>
        <p:spPr>
          <a:xfrm>
            <a:off x="1219320" y="3048120"/>
            <a:ext cx="1255680" cy="125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Ausburn\AppData\Local\Microsoft\Windows\Temporary Internet Files\Content.IE5\7JBLM7VS\MCj02928760000[1].wmf"/>
          <p:cNvPicPr/>
          <p:nvPr/>
        </p:nvPicPr>
        <p:blipFill>
          <a:blip r:embed="rId2"/>
          <a:stretch/>
        </p:blipFill>
        <p:spPr>
          <a:xfrm>
            <a:off x="3581280" y="3276720"/>
            <a:ext cx="1143000" cy="135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Ausburn\AppData\Local\Microsoft\Windows\Temporary Internet Files\Content.IE5\X6XCH667\MCj04414620000[1].png"/>
          <p:cNvPicPr/>
          <p:nvPr/>
        </p:nvPicPr>
        <p:blipFill>
          <a:blip r:embed="rId3"/>
          <a:stretch/>
        </p:blipFill>
        <p:spPr>
          <a:xfrm>
            <a:off x="6858000" y="29718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85800" y="1219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ensory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048120" y="12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hort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3244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562720" y="1752480"/>
            <a:ext cx="685800" cy="121932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Users\Ausburn\AppData\Local\Microsoft\Windows\Temporary Internet Files\Content.IE5\5SM4HY18\MCj04417540000[1].png"/>
          <p:cNvPicPr/>
          <p:nvPr/>
        </p:nvPicPr>
        <p:blipFill>
          <a:blip r:embed="rId4"/>
          <a:stretch/>
        </p:blipFill>
        <p:spPr>
          <a:xfrm>
            <a:off x="5410080" y="2819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5562720" y="19810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pisodic Buff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ix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838080" y="4724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’t learn what you don’t perce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3124080" y="4724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see the Big Pictu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477120" y="4572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facilitates effective/efficient storage and retriev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83808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Focus Attention and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352680" y="1905120"/>
            <a:ext cx="1828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Rehearse or Practic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Langu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Vis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5ab23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15ab23"/>
                </a:solidFill>
                <a:latin typeface="Arial"/>
              </a:rPr>
              <a:t>Recalle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934320" y="20574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ab23"/>
                </a:solidFill>
                <a:latin typeface="Arial"/>
              </a:rPr>
              <a:t>Structure &amp; Associ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23"/>
          <p:cNvSpPr/>
          <p:nvPr/>
        </p:nvSpPr>
        <p:spPr>
          <a:xfrm>
            <a:off x="2590920" y="25146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24"/>
          <p:cNvSpPr/>
          <p:nvPr/>
        </p:nvSpPr>
        <p:spPr>
          <a:xfrm>
            <a:off x="5105520" y="25146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6"/>
          <p:cNvCxnSpPr/>
          <p:nvPr/>
        </p:nvCxnSpPr>
        <p:spPr>
          <a:xfrm>
            <a:off x="5638680" y="2666520"/>
            <a:ext cx="610560" cy="2520"/>
          </a:xfrm>
          <a:prstGeom prst="straightConnector1">
            <a:avLst/>
          </a:prstGeom>
          <a:ln w="50760">
            <a:solidFill>
              <a:srgbClr val="c00000"/>
            </a:solidFill>
            <a:prstDash val="sysDash"/>
            <a:miter/>
            <a:tailEnd len="med" type="arrow" w="med"/>
          </a:ln>
        </p:spPr>
      </p:cxnSp>
      <p:sp>
        <p:nvSpPr>
          <p:cNvPr id="70" name="Right Arrow 27"/>
          <p:cNvSpPr/>
          <p:nvPr/>
        </p:nvSpPr>
        <p:spPr>
          <a:xfrm>
            <a:off x="6248520" y="25146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0:06:31Z</dcterms:created>
  <dc:creator>Ausburn</dc:creator>
  <dc:description/>
  <dc:language>en-US</dc:language>
  <cp:lastModifiedBy>Ausburn</cp:lastModifiedBy>
  <dcterms:modified xsi:type="dcterms:W3CDTF">2010-01-26T20:50:45Z</dcterms:modified>
  <cp:revision>11</cp:revision>
  <dc:subject/>
  <dc:title>Tasks for Good Visual Design</dc:title>
</cp:coreProperties>
</file>